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7.jpeg" ContentType="image/jpeg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6.jpeg" ContentType="image/jpeg"/>
  <Override PartName="/ppt/media/image18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9.png" ContentType="image/png"/>
  <Override PartName="/ppt/media/image61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49.png" ContentType="image/png"/>
  <Override PartName="/ppt/media/image30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234d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63de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234d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63de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680" y="1484280"/>
            <a:ext cx="9134640" cy="182520"/>
            <a:chOff x="4680" y="1484280"/>
            <a:chExt cx="9134640" cy="182520"/>
          </a:xfrm>
        </p:grpSpPr>
        <p:sp>
          <p:nvSpPr>
            <p:cNvPr id="3" name=""/>
            <p:cNvSpPr/>
            <p:nvPr/>
          </p:nvSpPr>
          <p:spPr>
            <a:xfrm>
              <a:off x="4680" y="1484280"/>
              <a:ext cx="9132840" cy="74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80" y="1628640"/>
              <a:ext cx="9132840" cy="38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480" y="1557360"/>
              <a:ext cx="9132840" cy="572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i="1" lang="en-GB" sz="4400" spc="-1" strike="noStrike">
                <a:solidFill>
                  <a:srgbClr val="000000"/>
                </a:solidFill>
                <a:latin typeface="Book Antiqua"/>
              </a:rPr>
              <a:t>Structure Solution using Direct Methods"</a:t>
            </a:r>
            <a:r>
              <a:rPr b="1" lang="en-GB" sz="4400" spc="-1" strike="noStrike">
                <a:solidFill>
                  <a:srgbClr val="000000"/>
                </a:solidFill>
                <a:latin typeface="Book Antiqua"/>
              </a:rPr>
              <a:t> -  EXPO Structure Solution Softwar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933360"/>
            <a:ext cx="762012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rtin P. Att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MIST Centre for Microporous Materia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partment of Chemistry, UMIS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nchester, 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CM-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4/8/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03400" cy="141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1640" y="404280"/>
            <a:ext cx="287820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52440" y="1650960"/>
            <a:ext cx="663912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60360" y="1681200"/>
            <a:ext cx="6624720" cy="5164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03280" y="404280"/>
            <a:ext cx="273348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31640" y="476280"/>
            <a:ext cx="287820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82680" y="1662120"/>
            <a:ext cx="657864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476280"/>
            <a:ext cx="338148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76200" y="1671480"/>
            <a:ext cx="65916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32000" y="549360"/>
            <a:ext cx="2949840" cy="53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58920" y="1663560"/>
            <a:ext cx="66247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476280"/>
            <a:ext cx="309384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60360" y="1673280"/>
            <a:ext cx="6624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476280"/>
            <a:ext cx="309384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60360" y="1684440"/>
            <a:ext cx="662472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2760" y="242100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87280" y="3141720"/>
            <a:ext cx="3456000" cy="4316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9440" y="228240"/>
            <a:ext cx="5326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- less data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.exp file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71640" y="260280"/>
            <a:ext cx="54007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- less data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60360" y="1682640"/>
            <a:ext cx="662472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496908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- less data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71520" y="1682640"/>
            <a:ext cx="6600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97080" y="228240"/>
            <a:ext cx="2949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Cimetidine:</a:t>
            </a:r>
            <a:br>
              <a:rPr sz="40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0000" y="3068640"/>
            <a:ext cx="45324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34920" y="404640"/>
            <a:ext cx="5614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- less data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9440" y="1698480"/>
            <a:ext cx="65833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2720" y="404280"/>
            <a:ext cx="503856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- less data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36600" y="1681200"/>
            <a:ext cx="66708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404640"/>
            <a:ext cx="5038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- less data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43080" y="1668600"/>
            <a:ext cx="665640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6720" y="404640"/>
            <a:ext cx="547056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- less data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12920" y="1700280"/>
            <a:ext cx="651816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575784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- less data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78000" y="1698480"/>
            <a:ext cx="658656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560" y="404280"/>
            <a:ext cx="503892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- less data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36600" y="1644480"/>
            <a:ext cx="666900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12000" cy="3876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0360" y="189000"/>
            <a:ext cx="6624720" cy="103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– decrease B factor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.exp file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013360"/>
            <a:ext cx="1800360" cy="503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0360" y="333000"/>
            <a:ext cx="662472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– decrease B factor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41280" y="1643040"/>
            <a:ext cx="66596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654984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– decrease B factor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33360" y="1684440"/>
            <a:ext cx="6675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2360" y="404280"/>
            <a:ext cx="684072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– decrease B factor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35160" y="1644480"/>
            <a:ext cx="66722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Cimetidine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.exp file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92144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647856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– decrease B factor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87360" y="1652760"/>
            <a:ext cx="656748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05492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– decrease B factor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33360" y="1700280"/>
            <a:ext cx="66754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9080" y="404280"/>
            <a:ext cx="67658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– decrease B factor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31920" y="1646280"/>
            <a:ext cx="66801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669456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– decrease B factor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39840" y="1674720"/>
            <a:ext cx="666432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698184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– decrease B factor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41280" y="1673280"/>
            <a:ext cx="6661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267080" y="1700280"/>
            <a:ext cx="4876920" cy="4184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809800"/>
            <a:ext cx="4343400" cy="1963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6553080"/>
            <a:ext cx="82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. G. Harvey, S. J. Teat, C. C. Tang, L. M. Cranswick and M. P. Attfield,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norg. Chem.,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2003,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2428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.exp file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0596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70080" y="1700280"/>
            <a:ext cx="660384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58920" y="1693800"/>
            <a:ext cx="66247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58920" y="1660680"/>
            <a:ext cx="662472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Cimetidine:</a:t>
            </a:r>
            <a:br>
              <a:rPr sz="40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ata file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5640" y="2119320"/>
            <a:ext cx="817272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60360" y="1682640"/>
            <a:ext cx="662472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4400" y="1647720"/>
            <a:ext cx="67737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79440" y="1698480"/>
            <a:ext cx="65851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41280" y="1643040"/>
            <a:ext cx="66596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39840" y="1643040"/>
            <a:ext cx="66628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58920" y="1673280"/>
            <a:ext cx="662472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41280" y="1660680"/>
            <a:ext cx="666144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No Fourier recycling .exp file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46120" y="2093760"/>
            <a:ext cx="6249960" cy="3853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03280" y="5084640"/>
            <a:ext cx="1656000" cy="64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No Fourier recycling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58920" y="1671480"/>
            <a:ext cx="6624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No Fourier recycling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58920" y="167796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25800" y="228240"/>
            <a:ext cx="3093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82800" y="1719360"/>
            <a:ext cx="1727280" cy="446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95760" y="1717560"/>
            <a:ext cx="1765440" cy="4465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553080"/>
            <a:ext cx="82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. E. Grey,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. M. D. Cranswick, C. Li,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. A. Bursill, and J. L. Peng,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J. Solid State Chem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1998,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38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74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No Fourier recycling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1671480"/>
            <a:ext cx="66247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No Fourier recycling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58920" y="1682640"/>
            <a:ext cx="662472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68560" y="1681200"/>
            <a:ext cx="6805440" cy="5121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 Bail fit using GSA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ternal Extraction hkl file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62280" y="2052720"/>
            <a:ext cx="361944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ternal Extraction .exp file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54000" y="2602080"/>
            <a:ext cx="7234200" cy="2805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042920" y="4365720"/>
            <a:ext cx="1944720" cy="287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ternal Extracti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58920" y="1677960"/>
            <a:ext cx="66247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ternal Extracti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58920" y="1670040"/>
            <a:ext cx="662472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ternal Extracti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24000" y="1662120"/>
            <a:ext cx="669456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[AlF((HO)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ternal Extracti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58920" y="1652760"/>
            <a:ext cx="662472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34920" y="404280"/>
            <a:ext cx="561492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772400" cy="468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just emphasis of high angl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c012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Cut data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c012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Varying overall thermal fa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ok at starting (un-recycled)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nsity ex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c012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Increase number of reflection used in pha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c012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Look at other trial solutions with similar CF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c012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Other strategies used in direct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c012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http://www.ba.cnr.it/IRMEC/SirWare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89440" y="228240"/>
            <a:ext cx="3165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.exp file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36640" y="2317680"/>
            <a:ext cx="56707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74184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68280" y="1674720"/>
            <a:ext cx="66074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59280" y="404280"/>
            <a:ext cx="302256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60360" y="1666800"/>
            <a:ext cx="66247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32000" y="476280"/>
            <a:ext cx="294984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0.9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2.88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60360" y="1682640"/>
            <a:ext cx="662472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6T14:53:24Z</dcterms:created>
  <dc:creator>Materials Research Laboratory</dc:creator>
  <dc:description/>
  <dc:language>en-US</dc:language>
  <cp:lastModifiedBy>Martin Attfield</cp:lastModifiedBy>
  <cp:lastPrinted>2002-08-05T14:39:00Z</cp:lastPrinted>
  <dcterms:modified xsi:type="dcterms:W3CDTF">2003-08-13T16:18:08Z</dcterms:modified>
  <cp:revision>395</cp:revision>
  <dc:subject/>
  <dc:title>Introduction to Zeolites</dc:title>
</cp:coreProperties>
</file>