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518-7BEE-48C4-948A-4DE231BE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06A-7374-4D3A-A10F-644FEBA2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F1F-E498-4F14-BFC9-B72082A8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3DF-B95A-493D-AB7E-DC5B98DA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581-CB50-4C4A-8C13-76155961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908-E50B-4A8D-BA8E-41E71F6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8F5-4C6A-40BE-A100-B9C1E9C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6B8-B752-4AB6-9BA8-590ED784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A76-CB09-4ACB-846E-DEB9B5CC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F21-78A2-44D7-81BB-1B8694A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B09-36F0-4280-861C-F0F06EC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596-CE9A-43FB-89CA-BDF4B75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BF5-DCC2-4DAE-9337-E6958F819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181480"/>
            <a:ext cx="85107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exander J. Blake, School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University of Nottingham, Nottingham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Refinement on weak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problematic small molecule data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using SHELXL-97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gle Crystal and Powder Diffrac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ftware Worksho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4 August 2003  ECM-21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urban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_tf_blk_sm.tif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41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ome of the tools – a brief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905120"/>
            <a:ext cx="8686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YZ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x, y and z parameters are used for all the named ato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ADP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isotropic or anisotropic displacement parameters are used for all the named ato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  n  s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ollowing atoms belong to PART n of a disordered grou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3716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905120"/>
            <a:ext cx="86868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FIX  d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 pairs of atoms are restrained to a specified target value of d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DI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s between pairs of atoms are restrained to be equal with an effective standard deviation s (cf. DFI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ME  s1[0.02]  s2[0.02] 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atoms specified here are linked to the same number of atoms which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792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17622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752480"/>
            <a:ext cx="845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LAT  s[0.1]  four or mor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named atoms are restrained to lie in a plan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MP  c  sigma  c1  m1  c2  m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inear restraint:   c = c1*fv(m1) + c2*fv(m2) + ...   is applied to the specified free variab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LU/SIMU/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various restraints to AD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057400"/>
            <a:ext cx="815328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RAG code[17] a … 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ables a fragment to be input using an input cell and coordina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must immediately follow the last atom of a FRAG frag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X  n&gt;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geometry of fragment with this n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4382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438280"/>
            <a:ext cx="0" cy="358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8229240" y="24382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229240" y="60199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1280" y="289512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2.25 0.02  F1 F2  F1 F3  F1 F4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F4-ORD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662200" cy="304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58672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This is often a prelude to disorder modelling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105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2.25 0.02  F1 F2  F1 F3  F1 F4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F4DISORD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878200" cy="28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191120"/>
            <a:ext cx="5562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1.38 0.01  B F1’  B F2’  B F3’  B 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2.25 0.02  F1’ F2’  F1’ F3’  F1’ F4’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F2’ F3’  F2’ F4’  F3’ F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943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Verdana"/>
              </a:rPr>
              <a:t>+ refine occupancy of F1—F4 versus F1’—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3716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bF6" descr=""/>
          <p:cNvPicPr/>
          <p:nvPr/>
        </p:nvPicPr>
        <p:blipFill>
          <a:blip r:embed="rId1"/>
          <a:srcRect l="9334" t="9334" r="9334" b="6999"/>
          <a:stretch/>
        </p:blipFill>
        <p:spPr>
          <a:xfrm>
            <a:off x="304920" y="2666880"/>
            <a:ext cx="3498840" cy="359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2590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1  SB26 F27  SB26 F28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2  F27 F28  F27 F29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720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SADI  0.02  F27 F30  F28 F31  F29 F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3333cc"/>
                </a:solidFill>
                <a:latin typeface="Verdana"/>
              </a:rPr>
              <a:t>trans</a:t>
            </a: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 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886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i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angle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7913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mean Sb—F 1.85(1) Å (175 CCDC ent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realistic bonds an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or agreement between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oks un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ripodal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124080" cy="305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905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ll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ripodal 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352680"/>
            <a:ext cx="5486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imilarity restraints (distances+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ME  0.01  C1 &gt; O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11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17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4419720"/>
            <a:ext cx="12952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752120" y="4495320"/>
            <a:ext cx="16765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6095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 “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average out” th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2193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96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743200"/>
            <a:ext cx="801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two sites just use a fre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more it is a bit more com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343400"/>
            <a:ext cx="8777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UMP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veral free variables on FVA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ee variable references in ATOM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7243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order over multiple (&gt;2)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371600"/>
            <a:ext cx="6629400" cy="1219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523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276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MP 1.00 0.01  1 2  1 3  1 4  1 5  1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038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VAR  osf   0.2  0.2  0.2  0.2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648320"/>
            <a:ext cx="4343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1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2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3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4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6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0384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se occupancies will refine subject to their sum staying close to 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06668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blem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2209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i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crystal siz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v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Ps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dis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2590920"/>
            <a:ext cx="3276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pseudosym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residual e</a:t>
            </a:r>
            <a:r>
              <a:rPr b="1" lang="en-GB" sz="2000" spc="-1" strike="noStrike" baseline="25000">
                <a:solidFill>
                  <a:srgbClr val="ff505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6002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AGCOBQ1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1828800" cy="3959280"/>
          </a:xfrm>
          <a:prstGeom prst="rect">
            <a:avLst/>
          </a:prstGeom>
          <a:ln w="0">
            <a:noFill/>
          </a:ln>
        </p:spPr>
      </p:pic>
      <p:pic>
        <p:nvPicPr>
          <p:cNvPr id="138" name="AGCOBQ1" descr=""/>
          <p:cNvPicPr/>
          <p:nvPr/>
        </p:nvPicPr>
        <p:blipFill>
          <a:blip r:embed="rId2"/>
          <a:stretch/>
        </p:blipFill>
        <p:spPr>
          <a:xfrm>
            <a:off x="6858000" y="2819520"/>
            <a:ext cx="1828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8120" y="21337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ple DFIX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—B  Co—C  B—B  B—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3526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ual or automatic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4343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+ similarity restraints between c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1814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and no angle restra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5562720"/>
            <a:ext cx="1690560" cy="733320"/>
          </a:xfrm>
          <a:custGeom>
            <a:avLst/>
            <a:gdLst>
              <a:gd name="textAreaLeft" fmla="*/ 563400 w 1690560"/>
              <a:gd name="textAreaRight" fmla="*/ 1447920 w 169056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1430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agcobq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4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828800"/>
            <a:ext cx="66214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[Co(C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B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9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H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11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]</a:t>
            </a:r>
            <a:r>
              <a:rPr b="1" lang="en-GB" sz="4800" spc="-1" strike="noStrike" baseline="25000">
                <a:solidFill>
                  <a:srgbClr val="3333cc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is a 3D-rigid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- can treat it as a rigi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352680"/>
            <a:ext cx="768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an take model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in the s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from anothe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calculated or optimis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typical or average databas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219320"/>
            <a:ext cx="7504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90920"/>
            <a:ext cx="73915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RAG  17   15.72  20.15 20.39 74.8 70.75 86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o      4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1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2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3      3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19    3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rst import the model into the IN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1430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05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n apply this model to you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514600"/>
            <a:ext cx="8381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7  0.33250   0.76245   0.52909 11.000  0.0608 0.138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0396  -0.0183  -0.0212   0.01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1   0.37668   0.84367   0.54903  11.00000   0.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0.41382   0.84350   0.45796  11.00000   0.0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  0.31680   0.82455   0.43612  11.00000   0.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3   0.20793   0.79538   0.51437  11.00000   0.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98108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r model is idealised to the inpu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AG ... FEND lines disappear in the RE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FIX 17 is replaced by a simple AFI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sitional parameters reduced from 69 t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49568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3D matching requirements are rigo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nput mode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be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eck the refinement indicators for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uld also be applied t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bF6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66" name="PF6-COL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2289240" cy="2522520"/>
          </a:xfrm>
          <a:prstGeom prst="rect">
            <a:avLst/>
          </a:prstGeom>
          <a:ln w="0">
            <a:noFill/>
          </a:ln>
        </p:spPr>
      </p:pic>
      <p:pic>
        <p:nvPicPr>
          <p:cNvPr id="167" name="BF4-COL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07036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" y="54100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+ benzene solvent, phenyl ring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ther rigid anions, et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Thanks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810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iversity of Notting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verseas Confere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oy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leg Dolomanov, Neil Champn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rtin Schröder, Claire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Restraints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3200" spc="-1" strike="noStrike">
                <a:solidFill>
                  <a:srgbClr val="ff5050"/>
                </a:solidFill>
                <a:latin typeface="Verdan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438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Restraints: formally, add extra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4038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Constraints: formally, fix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200400"/>
            <a:ext cx="8077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Example: all B-F distances in BF</a:t>
            </a:r>
            <a:r>
              <a:rPr b="1" lang="en-GB" sz="2400" spc="-1" strike="noStrike" baseline="-25000">
                <a:solidFill>
                  <a:srgbClr val="3333ff"/>
                </a:solidFill>
                <a:latin typeface="Verdana"/>
              </a:rPr>
              <a:t>4</a:t>
            </a:r>
            <a:r>
              <a:rPr b="1" lang="en-GB" sz="28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48769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Example: atoms fixed on special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9480" y="571500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use of either must be just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8160" y="1600200"/>
            <a:ext cx="6777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4647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range of hexanuclear supramolecular c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til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ligand which is both blocking and che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ultiL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993760" cy="28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66880" y="60199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hem. Commun. 2003, pp. 682-6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Cu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ure1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0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ure2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34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gcobq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242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dinuclear cation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 (AgL)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ure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4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order in many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artial occupancy of some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w resolution, low r/p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600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(template) anion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9:26:47Z</dcterms:created>
  <dc:creator>Blake</dc:creator>
  <dc:description/>
  <dc:language>en-US</dc:language>
  <cp:lastModifiedBy>Blake</cp:lastModifiedBy>
  <dcterms:modified xsi:type="dcterms:W3CDTF">2003-08-12T11:36:18Z</dcterms:modified>
  <cp:revision>160</cp:revision>
  <dc:subject/>
  <dc:title>PowerPoint Presentation</dc:title>
</cp:coreProperties>
</file>