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media/image13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9EF3-04D1-4263-8796-827AF3E49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F632-C212-468E-918E-6B239DD8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3842-CFD8-43EA-AB21-75F95732C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CA2A-5B93-4126-A503-49329404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F2A9-E284-41E8-8051-E419F2E6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24D3-B4C2-4661-9872-BED98B4D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5662-DCD1-4A35-8BA3-D1B872BF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C31F-4EEE-419B-9896-2C83627E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643F-0DA0-4CFD-B507-AB0038D4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F06C-F1F5-4DCC-B5AD-21A069AE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D144-D3CD-49E4-94D7-4C789DAC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8A49-6D82-4762-B743-D14427E5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D707-D2C9-4938-90CA-3ECD5336C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467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Times New Roman"/>
              </a:rPr>
              <a:t>DIRDIF - Fragment Searching to easily solve structures which direct methods won’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4792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bert Gould, Structural Biochemistry ICMB  University of Edinbur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But really Paul Beurskens et al, University of Nijme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505320" y="2438280"/>
          <a:ext cx="2095560" cy="227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438280"/>
                    <a:ext cx="2095560" cy="22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8000"/>
                </a:solidFill>
                <a:latin typeface="Times New Roman"/>
              </a:rPr>
              <a:t>Orient Test: CHNM1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71600" y="2057400"/>
            <a:ext cx="6400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a         b          c       </a:t>
            </a:r>
            <a:r>
              <a:rPr b="1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8.280  12.915  41.666  90  90.00  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en-GB" sz="3200" spc="-1" strike="noStrike" baseline="-25000">
                <a:solidFill>
                  <a:srgbClr val="0000ff"/>
                </a:solidFill>
                <a:latin typeface="Times New Roman"/>
              </a:rPr>
              <a:t>30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lang="en-GB" sz="3200" spc="-1" strike="noStrike" baseline="-25000">
                <a:solidFill>
                  <a:srgbClr val="0000ff"/>
                </a:solidFill>
                <a:latin typeface="Times New Roman"/>
              </a:rPr>
              <a:t>23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N  :   Z =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124 atoms in asymmetric unit - strong hint of twinn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IENT - the general princi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2089080"/>
          <a:ext cx="3809880" cy="38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89080"/>
                    <a:ext cx="380988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e sharpened Patterson from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e vector map from fra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tate calculated map to achieve best overlap with Patter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NM13 Patter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2120" y="20570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eak  height     x       y       z    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   1397.  0.0000  0.0532  0.5000   20.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   1241.  0.2103  0.0000 -0.4999   20.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   1006.  0.0332  0.0000  0.0269    1.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   865.  0.0009  0.0869  0.0140    1.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    636.  0.0000  0.1872  0.0000    2.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    464.  0.0030  0.4896  0.2497   12.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    457.  0.4502  0.2590 -0.0001    5.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    389. -0.2460  0.4897  0.2496   12.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9    374.  0.2252  0.4884  0.2506   12.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    350.  0.1415  0.0894  0.0390    2.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IENT - Matching the Ve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777240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ORIENT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523880" y="1676160"/>
            <a:ext cx="6400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t   A        B       C     IS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  216.40   69.40  199.80   3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  184.40   32.40  176.40   3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  170.80   33.60  174.20   3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   90.70   40.20   16.80   3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  346.40   71.40   87.60   2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  145.20   61.40   27.60   2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(with Z’ = 2, at least two correct orientations are pres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RACOR - general princi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shift of oriented fragment relative to symmetry ele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52480" y="3429000"/>
            <a:ext cx="579132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COR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lass 2: origin not fixed in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-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Fourier is calculated in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-pla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= 8.280, 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c =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41.666 Å,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=   90.0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o close cont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ossible shift ve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OM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   912.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0.14858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0.00000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0.006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CHNM13 – Results for 4 molecu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105520" y="4191120"/>
          <a:ext cx="23590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4191120"/>
                    <a:ext cx="23590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371600" y="4191120"/>
            <a:ext cx="2286000" cy="1973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5029200" y="2057400"/>
            <a:ext cx="2057400" cy="1889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990720" y="1981080"/>
            <a:ext cx="251460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NM13 – The end of the 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inement converged unconvincing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inned refinement with [100] as twin axis gave 60:40 composition for tw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is probably due to the ability to the Fourier expansion to delete the weaker component on geometrical grou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DIF - The Real T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.T. Beurskens, G. Beurskens, R de Gelder, S. Garcia-Granda, R. Gould &amp; J.M.M Smits, Crystallography Laboratory, the University of Nijme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indows realisation by Louis Ferrugia, The University of Glasg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amples from Simon Parsons, The University of Edinbur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85680" y="1981080"/>
            <a:ext cx="3208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IRDIF - the general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76212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ATTY Example: Rh(C</a:t>
            </a:r>
            <a:r>
              <a:rPr b="0" lang="en-US" sz="3200" spc="-1" strike="noStrike" baseline="-25000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){B(C</a:t>
            </a:r>
            <a:r>
              <a:rPr b="0" lang="en-US" sz="3200" spc="-1" strike="noStrike" baseline="-25000">
                <a:solidFill>
                  <a:srgbClr val="ff33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)</a:t>
            </a:r>
            <a:r>
              <a:rPr b="0" lang="en-US" sz="3200" spc="-1" strike="noStrike" baseline="-25000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}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1828800"/>
            <a:ext cx="6873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2057400"/>
            <a:ext cx="7315200" cy="38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  ;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618 Å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;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4  ;  data po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lated compound: Cd(Br){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  ;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337 Å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;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2 ;  data very g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but not, of course, known about until later!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Patterson f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Rh(C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){B(C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S)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6000.  0.0000  0.0000  0.0000    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2   2762.  0.0402 -0.1273 -0.4576    8.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3   1774.  0.2821  0.3041 -0.1894    6.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4   1134. -0.3419 -0.4948  0.1759    8.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5   1084.  0.2122  0.3148 -0.0738    4.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6   1074.  0.0587  0.1962  0.0148    2.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7   1036. -0.2006  0.0525 -0.0485    2.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8   1035.  0.4790  0.2530 -0.1397    7.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9   1015. -0.0707  0.0107  0.1178    2.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10    920.  0.2423  0.4265  0.2664    6.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Rh(C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){B(C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)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914400" y="1981080"/>
          <a:ext cx="3335400" cy="324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81080"/>
                    <a:ext cx="3335400" cy="32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648320" y="1905120"/>
          <a:ext cx="3381120" cy="3314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338112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143000" y="55627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RDIF   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55627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ined     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18DEN : Patter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126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108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18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;  P2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/c:  V = 38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Å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Courier New"/>
              </a:rPr>
              <a:t>3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:   Z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eak height   x       y       z     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1   6000.  0.0000  0.0000  0.0000    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2    461.  0.0000  0.2053  0.5000    8.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3    416.  0.0000  0.1524  0.5000    8.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4    390.  0.0000  0.3350  0.5000   10.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5    367.  0.1657  0.1813  0.2520    5.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6    367.  0.0000  0.0373  0.5000    8.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7    363. -0.1338  0.0346  0.2463    5.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8    348.  0.0584  0.0000  0.0681    1.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9    343.  0.2914  0.0000  0.0219    5.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10    338.  0.0320  0.5000  0.1696    9.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18DEN: Patterson solution and final refin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S1    0.000  0.000  0.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S2    0.002 -0.003  0.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S3    0.000  0.000  0.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S4   -0.001 -0.001  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S5   -0.002  0.001  0.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S6    0.000  0.000  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S7   -0.001  0.005  0.0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S8    0.002 -0.005  0.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S9 (not found in Patters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18DEN - DIRDIF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676520" y="1676520"/>
          <a:ext cx="5943600" cy="40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676520"/>
                    <a:ext cx="5943600" cy="40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1T09:34:21Z</dcterms:created>
  <dc:creator>Robert Gould</dc:creator>
  <dc:description/>
  <dc:language>en-US</dc:language>
  <cp:lastModifiedBy>Robert Gould</cp:lastModifiedBy>
  <dcterms:modified xsi:type="dcterms:W3CDTF">2003-08-16T22:02:27Z</dcterms:modified>
  <cp:revision>12</cp:revision>
  <dc:subject/>
  <dc:title>An exceptionally stable peptide nanotube system with flexible pores</dc:title>
</cp:coreProperties>
</file>