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9135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492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476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44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492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476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43200" y="6400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ints and tricks for using non-defaults in Sir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Lachlan M. D. Cranswick (lachlan.cranswick@nrc.ca) http://neutron.nrc.ca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98108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Slide </a:t>
            </a:r>
            <a:fld id="{3C19C5C6-77B7-422A-8E23-E665B7577E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126120"/>
            <a:ext cx="199872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047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575320"/>
            <a:ext cx="3505320" cy="1282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cc66"/>
                </a:solidFill>
                <a:latin typeface="Times New Roman"/>
              </a:rPr>
              <a:t>Tricks for solving difficult structures using Sir200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580920" y="2590560"/>
            <a:ext cx="5334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chlan M. D. Cranswick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utron Program for Materials Research (NMPR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ational Research Council of Canada (NRC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Times New Roman"/>
              </a:rPr>
              <a:t>Building 459, Station 18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Times New Roman"/>
              </a:rPr>
              <a:t>Chalk River Laboratories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Times New Roman"/>
              </a:rPr>
              <a:t>Chalk River, Ontario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Times New Roman"/>
              </a:rPr>
              <a:t>Canada, K0J 1J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-mail: </a:t>
            </a: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lachlan.cranswick@nrc.gc.c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WW: </a:t>
            </a: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http://neutron.nrc.gc.ca/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6858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r97/92 Can be very fast compared to Sir2002 on small structures – few secon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following using the Rhomax directive as wel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ir97/Sir92 on small struct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19520" y="2243160"/>
            <a:ext cx="57150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447920"/>
            <a:ext cx="8458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If you are told there are “pseudotranslational” effects, and Sir2002 seems to be going nowhere, it can be good to try the “Relax” option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(Following originally solved by manual interpretation of a 3D Patterson map: I.E. Grey, R.S. Roth, M.L. Balmer, Journal of Solid State Chemistry, 131, 38-42 (1997)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“Relax” with “pseudotranslational effects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95680" y="3564000"/>
            <a:ext cx="35863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838080"/>
            <a:ext cx="8381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der “Modify, Setup”, select “Rela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lax” and pseudo eff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640080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lax” helps to convincingly solve the structu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24080" y="1598760"/>
            <a:ext cx="519588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1600200"/>
            <a:ext cx="6019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Font typeface="Adv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A new octahedral tilt system in the perovskite phase Ca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dvTimes"/>
              </a:rPr>
              <a:t>3</a:t>
            </a: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Nb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dvTimes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O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dvTimes"/>
              </a:rPr>
              <a:t>8</a:t>
            </a: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” L.M.D. Cranswick, W.G. Mumme, I.E. Grey,</a:t>
            </a:r>
            <a:r>
              <a:rPr b="0" lang="en-US" sz="2200" spc="-1" strike="noStrike">
                <a:solidFill>
                  <a:srgbClr val="ffff00"/>
                </a:solidFill>
                <a:latin typeface="AdvP4C4E74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R.S. Roth, and P. Bordet; </a:t>
            </a:r>
            <a:r>
              <a:rPr b="0" lang="en-US" sz="2200" spc="-1" strike="noStrike">
                <a:solidFill>
                  <a:srgbClr val="ffff00"/>
                </a:solidFill>
                <a:latin typeface="AdvMacTim-I"/>
              </a:rPr>
              <a:t>Journal of Solid State Chemistry 172 (2003) 178–187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Font typeface="Adv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Actually solved from single crystal X-ray and powder X-ray and neutron diffraction over a duration of around 3 years using manual model building and crystal chemistry argument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Font typeface="Adv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Rhombohedral (pseudo-cubic) perovskite structure (22 B cations, 20 A cations, 56 Oxygen atoms.  Total of 98 atoms. 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Large Structures with lots of pseudo symmetry with Sir200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1594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762120"/>
            <a:ext cx="6934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Following is frustrating for demonstrating non-defaults, as latest Sir2002 now solves this with standard defaults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So will go through the “non-default process”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With defaults - solves in around 15 minutes on Trial 7 with an R factor of 20.70% 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Two problems with polymeric inorganics: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the structure has to be solved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then you have to recognize that it has been solved – easy in hindsight – but perhaps not on the first occassion.  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Using different options can lead to different “solved” structures of which one may be easier to interpret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dvTimes"/>
              </a:rPr>
              <a:t>Try 1: Using the standard SIr2002 default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8880" y="1371600"/>
            <a:ext cx="1594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066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ops on Trial 4 with an R factor of 21.26% and structure is solv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AdvTimes"/>
              </a:rPr>
              <a:t>Try 2 (if not solved) : using Relax only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1593720"/>
            <a:ext cx="527220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ops on Trial 17 with an R factor of 18.28%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ucture is buildable/refinable (a few weeks/months work to refine to completion using something like Jana or Shel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AdvTimes"/>
              </a:rPr>
              <a:t>Try 3 (if not solved) : </a:t>
            </a:r>
            <a:r>
              <a:rPr b="0" i="1" lang="en-US" sz="3500" spc="-1" strike="noStrike">
                <a:solidFill>
                  <a:srgbClr val="ffcc66"/>
                </a:solidFill>
                <a:latin typeface="AdvTimes"/>
              </a:rPr>
              <a:t>using Relax and &lt; 20% R-factor stop (default is &lt; 25%)</a:t>
            </a:r>
            <a:endParaRPr b="0" i="1" lang="en-US" sz="35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86200" y="2665440"/>
            <a:ext cx="41292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1295280"/>
            <a:ext cx="8381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ops on Trial 10 with an R factor of 20.36%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ucture looks buildable/refin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AdvTimes"/>
              </a:rPr>
              <a:t>Try 4 (if not solved – or even if it did) </a:t>
            </a:r>
            <a:r>
              <a:rPr b="0" i="1" lang="en-US" sz="3500" spc="-1" strike="noStrike">
                <a:solidFill>
                  <a:srgbClr val="ffcc66"/>
                </a:solidFill>
                <a:latin typeface="AdvTimes"/>
              </a:rPr>
              <a:t>now using Relax and &lt; 15% R-factor stop</a:t>
            </a:r>
            <a:endParaRPr b="0" i="1" lang="en-US" sz="35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86200" y="2354400"/>
            <a:ext cx="44337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129528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oes through all 200 Trial with lowest R factor of  17.80% in Trial 95 (vs 18.28% in previous slid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AdvTimes"/>
              </a:rPr>
              <a:t>Try 5 (if Sir2002 stopped at 20%  to 25% solution) </a:t>
            </a:r>
            <a:r>
              <a:rPr b="0" i="1" lang="en-US" sz="3500" spc="-1" strike="noStrike">
                <a:solidFill>
                  <a:srgbClr val="ffcc66"/>
                </a:solidFill>
                <a:latin typeface="AdvTimes"/>
              </a:rPr>
              <a:t>: just using &lt; 20% R-factor stop</a:t>
            </a:r>
            <a:endParaRPr b="0" i="1" lang="en-US" sz="35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733920" y="2195640"/>
            <a:ext cx="451008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21932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n solve structures up to and beyond 2000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on-hydrogen atoms in the asymmetric un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ee for academics and non-profit u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r2002 web addres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http://www.ic.cnr.it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me tricks may be required to get it to solve on some difficult structur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l “what is Sir2002 actually doing under the hood” questions should be put on hold until members of the Sirware group arrive for the main confere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ir200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83808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ick Go button, solve stru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tience is a virtue – the following Cyclodextrin is expected to have around 250 atoms in the asymmetric unit and Z’=4.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akes ~20 hours to solve on 2GHz PC – on trial 132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Large Struct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41288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838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list may show a other trials worth looking 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ploring previous Tri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510240" cy="2889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343400" y="2514600"/>
            <a:ext cx="46483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8380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list may show a trial number worth looking 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 got directly to this trial, after %phase, use the command “trial 132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urier Cycling on Trial 13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362320"/>
            <a:ext cx="685800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wind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structure  cyclodextri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ini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job   cyclodextri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d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cell   29.420  29.891  30.686  90.000  90.000  90.000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pace  P 21 21 2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cont   C  1000 H   800 O   400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flections   sadf.hk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mat  (3i4,2f8.2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phas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66ff33"/>
                </a:solidFill>
                <a:latin typeface="Courier New"/>
              </a:rPr>
              <a:t>trial 13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continu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mmediately goes to solve on Trial 13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on Trial 13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498636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838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lution from Trial 132 is now display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Solving on Trial 132 – 20 minutes later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55771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914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f the Sir2002 Binary file (*.bin) has not been corrupted, you can immediately show the solved result for any tri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Showing Trial 132 – 1 second later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514600"/>
            <a:ext cx="731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%wind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%Structu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yclod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%Ph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Trial   1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%contin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9144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lution from Trial 132 is now display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y have to leave Sir2002 to finish a round of direct space refinement (10 minutes wait in this cas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howing Trial 132 – 1 second lat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57600" y="2386080"/>
            <a:ext cx="44337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914400"/>
            <a:ext cx="8534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 equivalent program to Sir2002 is Shelxd by George Sheldri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was originally hoping to have a speaker talk about on Shelxd he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helxd has different options to Sir2002 (via ASCII control file only – not a GUI) and can also solve merohedrally twinned single crystal data, if you hav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win matrix  (TWIN instruct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timate of the twin ratio (BASF paramete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http://shelx.uni-ac.gwdg.de/SHELX/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helx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ir2002 download: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http://www.ic.cnr.it/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helxd webpage: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http://shelx.uni-ac.gwdg.de/SHELX/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ssumption for this demonstration is you have already read up or can read up on the routine use of Sir2002.  Either using the GUI or an ASCII edi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windo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structure  cyclodextr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ini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job   cyclodextr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ell   29.420  29.891  30.686  90.000  90.000  90.0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space  P 21 21 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ont   C  1000 H   800 O   4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flections   </a:t>
            </a:r>
            <a:r>
              <a:rPr b="1" lang="en-US" sz="2000" spc="-1" strike="noStrike">
                <a:solidFill>
                  <a:srgbClr val="66ff33"/>
                </a:solidFill>
                <a:latin typeface="Courier New"/>
              </a:rPr>
              <a:t>sadf.hk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format  (3i4,2f8.2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pha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continu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reating a starting Fi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8380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y easy to start Sir2002 from the WinGX suite using the “Solve, Sir-2002” menu op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pawning Sir2002 from WinG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376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838080"/>
            <a:ext cx="82296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ust in case more complex demonstrations go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ar-shap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ck Go button, solve structure </a:t>
            </a:r>
            <a:br>
              <a:rPr sz="28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tetracyline hydrochloride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egg and Tea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510080" cy="405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Simple Struct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8380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e the “File, Export” option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helx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rystal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tal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DB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o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hakal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draw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YZ form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porting for viewing and refin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257800" y="838080"/>
            <a:ext cx="3225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ing all the data, the Sir2002 defaults may not work and structure might not solve with Sir200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Structures with Weak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50292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83808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y a Rhomax cutoff (maximum Sin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that will be used) Based on WinGX defaults:  </a:t>
            </a:r>
            <a:r>
              <a:rPr b="1" lang="en-CA" sz="2800" spc="-1" strike="noStrike">
                <a:solidFill>
                  <a:srgbClr val="ffff00"/>
                </a:solidFill>
                <a:latin typeface="Arial Unicode MS"/>
              </a:rPr>
              <a:t>Rhomax 0.250</a:t>
            </a:r>
            <a:r>
              <a:rPr b="0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the control fil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Structures with Weak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windo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structure    veryfa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ini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job   veryfast in C 2/c from Crystals distribu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ell     15.610  13.121  16.353  90.000 100.623  90.0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Space   C 2/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ontent   C   192 H   12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66ff33"/>
                </a:solidFill>
                <a:latin typeface="Courier New"/>
              </a:rPr>
              <a:t>Rhomax    0.2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flections   veryfast.hk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Format  (3i4,2f8.2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Fosqua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continu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8380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th Rhomax, structure now solves on the 1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Tr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Structures with Weak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55008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3:52:14Z</dcterms:created>
  <dc:creator>LDEO Petrology</dc:creator>
  <dc:description/>
  <dc:language>en-US</dc:language>
  <cp:lastModifiedBy>AECL</cp:lastModifiedBy>
  <cp:lastPrinted>2003-04-26T04:09:57Z</cp:lastPrinted>
  <dcterms:modified xsi:type="dcterms:W3CDTF">2003-08-15T18:17:22Z</dcterms:modified>
  <cp:revision>321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cp14.ac.uk</vt:lpwstr>
  </property>
  <property fmtid="{D5CDD505-2E9C-101B-9397-08002B2CF9AE}" pid="9" name="LinkColor">
    <vt:r8>16711782</vt:r8>
  </property>
  <property fmtid="{D5CDD505-2E9C-101B-9397-08002B2CF9AE}" pid="10" name="MailAddress">
    <vt:lpwstr>l.m.d.cranswick@dl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achlan\ccp14a\iucr2002\talk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