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B912-C4F6-4BBF-B7B6-82A116C96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74A7-E93E-4315-8F47-CCAD426A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DEEE-8B4C-4AC9-8227-EF5800057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A5A9-E428-4219-872B-C5172AB5A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2141-6A68-4DE9-9EEF-E1BD7A1F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D355-D8F8-4075-87B7-0C0E01FB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B3BD-2DDB-4E3D-9ABC-10C77766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0916-B626-434C-A735-F03A6DF1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9AF7-ED59-4B85-B73E-5D3E4F05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8C40-5BB0-41C5-B279-419FADB2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DBE5-7887-498A-AB80-6F30BC78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B3EE-3764-42D3-84D2-C099976F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D924-40DD-4547-BE07-80277B404EA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B511-7E74-49B4-85AB-5060576CE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197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Single Crystal Software Workshop              ECM21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1920" y="4343400"/>
            <a:ext cx="3962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Louis J. Farrugi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Department of Chem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University of Glasg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GLASGOW G12 8Q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Scot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346640" y="1600200"/>
            <a:ext cx="4187880" cy="4800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920" y="762120"/>
            <a:ext cx="8381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ing of Bruker &amp; Nonius CC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196380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438280" y="160020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197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Single Crystal Software Workshop              ECM21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762120"/>
            <a:ext cx="8381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av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470560" cy="4365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019920" y="1752480"/>
            <a:ext cx="2835000" cy="405792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ortav by R. Bl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e-correction with GAUSSIAN abs. c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pply frame/batch sca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pply empirical absorption co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ata merging &amp; reject outl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6248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heck that parameters are correct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197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Single Crystal Software Workshop              ECM21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762120"/>
            <a:ext cx="8381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av GUI - Empirical absor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1752480"/>
            <a:ext cx="2835000" cy="436284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equires sufficient data redunda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Uses spherical harmonics to model absorption anisotro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Odd harmonics used to model non-centrosymmetric systematic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-dependency also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6248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R. H. Blessing, </a:t>
            </a:r>
            <a:r>
              <a:rPr b="0" i="1" lang="en-US" sz="2000" spc="-1" strike="noStrike">
                <a:solidFill>
                  <a:srgbClr val="cc00cc"/>
                </a:solidFill>
                <a:latin typeface="Arial"/>
              </a:rPr>
              <a:t>Acta Crystallogr., Sect A</a:t>
            </a: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 1995, 51, 33-38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45616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197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Single Crystal Software Workshop              ECM21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762120"/>
            <a:ext cx="8381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av GUI - Mer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1752480"/>
            <a:ext cx="2835000" cy="344808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everal schemes for outlier rej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Normally use Tukey downweighting and rejection of outl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utoreject Outlier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until no further ones f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6248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R. H. Blessing, </a:t>
            </a:r>
            <a:r>
              <a:rPr b="0" i="1" lang="en-US" sz="2000" spc="-1" strike="noStrike">
                <a:solidFill>
                  <a:srgbClr val="cc00cc"/>
                </a:solidFill>
                <a:latin typeface="Arial"/>
              </a:rPr>
              <a:t>J Apply Cryst</a:t>
            </a: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 1997, 30, 421-42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12840" y="1768320"/>
            <a:ext cx="547848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197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Single Crystal Software Workshop              ECM21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762120"/>
            <a:ext cx="8381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av GUI -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19920" y="1752480"/>
            <a:ext cx="2835000" cy="253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ave intermediate results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ntrols number of plots and verbosity of outpu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emove unwanted fi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6248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R. H. Blessing, </a:t>
            </a:r>
            <a:r>
              <a:rPr b="0" i="1" lang="en-US" sz="2000" spc="-1" strike="noStrike">
                <a:solidFill>
                  <a:srgbClr val="cc00cc"/>
                </a:solidFill>
                <a:latin typeface="Arial"/>
              </a:rPr>
              <a:t>J Apply Cryst</a:t>
            </a: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 1997, 30, 421-42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6880" y="1774800"/>
            <a:ext cx="546444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197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Single Crystal Software Workshop              ECM21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762120"/>
            <a:ext cx="8381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av GUI -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1752480"/>
            <a:ext cx="2835000" cy="161856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hows outliers and rejected refl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hown missing refl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6248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R. H. Blessing, </a:t>
            </a:r>
            <a:r>
              <a:rPr b="0" i="1" lang="en-US" sz="2000" spc="-1" strike="noStrike">
                <a:solidFill>
                  <a:srgbClr val="cc00cc"/>
                </a:solidFill>
                <a:latin typeface="Arial"/>
              </a:rPr>
              <a:t>J Apply Cryst</a:t>
            </a: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 1997, 30, 421-42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4920" y="1768320"/>
            <a:ext cx="550224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197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Single Crystal Software Workshop              ECM21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762120"/>
            <a:ext cx="8381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ing of SMART/SAIN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5791320" cy="4545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080040" y="1641600"/>
            <a:ext cx="2835360" cy="436284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eads in all .RAW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ound in 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ovides ranges of Intensities, exposure time, frame numb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Necessary to provide  batch numbers for scal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n this example, files should be processed in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four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bat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197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Single Crystal Software Workshop              ECM21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762120"/>
            <a:ext cx="8381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ing of SMART/SAIN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4120" y="1752480"/>
            <a:ext cx="3429000" cy="70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hoose which sets of R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iles to concaten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4117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197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Single Crystal Software Workshop              ECM21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762120"/>
            <a:ext cx="8381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ing of SMART/SAIN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1752480"/>
            <a:ext cx="3429000" cy="375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hoose which sets of R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iles to concaten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cide on way to derive batch numbers for sca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Write file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concat_hkl.sorta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which is exact translation of the data in RAW f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uitable for merging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with Sorta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3560" y="1676520"/>
            <a:ext cx="411336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197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Single Crystal Software Workshop              ECM21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762120"/>
            <a:ext cx="8381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ing of Bruker &amp; Nonius CC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2240" y="1687680"/>
            <a:ext cx="611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here are two main stages of CCD data processing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184560"/>
            <a:ext cx="8382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irst procedure is specialised, involves many corrections to the raw CCD data - no facilities in WinGX for this (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nzo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valCCD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AINT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econd procedure is handled in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WinGX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by a variety of ro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rame integration relies on “black box” commercial softwa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4600" y="2193840"/>
            <a:ext cx="74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rame integration - extraction of intensities from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ost processing - error modelling, merging, abs corrections,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197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Single Crystal Software Workshop              ECM21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28600" y="685800"/>
          <a:ext cx="8763120" cy="605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8763120" cy="60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197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Single Crystal Software Workshop              ECM21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762120"/>
            <a:ext cx="8381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zox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67652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nzox was written by Bob Blessing, but extensively modified in Glasg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2362320"/>
            <a:ext cx="8534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eads .x files produced by Denzo and concatenate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oes little massaging of reflection intens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ransfers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fulls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transparently - no change in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imple statistical summation of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partials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to provide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ome rejection criteria -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of fit, partials at edge of scan set, sin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alculates direction cos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e-indexing for equivalent orientation matrices (NOT re-orientation 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arious possibilities for batch number - frame, scan-set,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output file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denzox_hkl.sortav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for Sortav (or Gaussian abs corre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output file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denzox.sa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or Sada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197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Single Crystal Software Workshop              ECM21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28600" y="685800"/>
          <a:ext cx="8763120" cy="605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8763120" cy="60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197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Single Crystal Software Workshop              ECM21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762120"/>
            <a:ext cx="8381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ing of KappaCC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2280" y="2057400"/>
          <a:ext cx="8915400" cy="267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57400"/>
                    <a:ext cx="8915400" cy="26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197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Single Crystal Software Workshop              ECM21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762120"/>
            <a:ext cx="8381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ing of KappaCC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" y="1608120"/>
            <a:ext cx="5486400" cy="4411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0880" y="615636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ost data reduction programs handled through KappaCCD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1600200"/>
            <a:ext cx="3124440" cy="436284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oad cell from various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ilter data by sin(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or batch 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Quick view of data quality by Weiss or Diederich - Karplus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ncatenation of input fi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lots (Sorta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197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Single Crystal Software Workshop              ECM21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762120"/>
            <a:ext cx="8381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ing of KappaCC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615636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ost data reduction programs handled through KappaCCD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67280" y="1600200"/>
            <a:ext cx="3124440" cy="436284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oad cell from various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ilter data by sin(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or batch 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Quick view of data quality by Weiss or Diederich - Karplus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ncatenation of input fi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lots (Sorta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1592280"/>
            <a:ext cx="525780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197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Single Crystal Software Workshop              ECM21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762120"/>
            <a:ext cx="8381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zox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5867640" cy="4711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172200" y="1676520"/>
            <a:ext cx="2835360" cy="466776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nzox by R. Bl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eads .x files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alculates direction cosines + batch no.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Writes out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denzox_hkl.sorta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denzox.s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eads .x files from disk files or CD-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llows for Denzo matrix var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5T16:20:44Z</dcterms:created>
  <dc:creator>L. Farrugia</dc:creator>
  <dc:description/>
  <dc:language>en-US</dc:language>
  <cp:lastModifiedBy>Louis Farrugia</cp:lastModifiedBy>
  <cp:lastPrinted>2002-06-25T11:38:44Z</cp:lastPrinted>
  <dcterms:modified xsi:type="dcterms:W3CDTF">2003-08-19T13:51:31Z</dcterms:modified>
  <cp:revision>94</cp:revision>
  <dc:subject/>
  <dc:title>WinGX Program System</dc:title>
</cp:coreProperties>
</file>