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28.png" ContentType="image/png"/>
  <Override PartName="/ppt/media/image5.png" ContentType="image/png"/>
  <Override PartName="/ppt/media/image30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13.png" ContentType="image/png"/>
  <Override PartName="/ppt/media/image9.png" ContentType="image/png"/>
  <Override PartName="/ppt/media/image25.png" ContentType="image/png"/>
  <Override PartName="/ppt/media/image10.wmf" ContentType="image/x-wmf"/>
  <Override PartName="/ppt/media/image4.png" ContentType="image/png"/>
  <Override PartName="/ppt/media/image27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pptx" ContentType="application/vnd.openxmlformats-officedocument.presentationml.presentation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2D5D-7E67-4BDC-9307-1CBFC3E25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8DDD-4AF2-44B5-9C48-81DF88BD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BE96-9F24-4E9F-B9F1-AD73B6ABB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1E0B-C6F1-467E-9713-FD9493981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7090-2A22-4F0A-BFE2-F6F0288D3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A6EB-EA14-4010-A5EE-4076BC5F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07799-46DF-43E4-AB2C-F28055ED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E4FD9-7D42-4BC2-9B31-DE597DB7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48D7-349C-4EC5-8343-AD546445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32EEB-749D-40B4-9BD3-0A57F8CA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5852B-7ED4-43BC-8334-D53AF29E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D5A9-0456-45EF-9FC4-36DE61BA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4386-42CB-40BB-96CE-5D184B35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5B57-AE73-45A6-8121-EB6F648E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F64F-17E9-4200-96AA-C006F8FF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05E9-1B27-40E9-81AF-D43FA3709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6336-7333-4210-A29D-DA5447EAD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5130-7F63-4BEA-8A31-5F507F52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950E-657C-4FF0-BDB6-2B208B9B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B68A-181F-4096-B4B8-B4F99CC0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3280-F532-4A36-9FB4-2958D612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9B61-C0E0-424C-B0CD-054EC475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3D54-DDAC-4DDF-93A1-4B0D0D71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2DEE-ED7F-4E89-B61E-496694D1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5659-78B4-48AA-B712-4C9F25005766}" type="slidenum">
              <a:rPr b="1" lang="en-A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AC7B-6AB6-42C3-8747-8B49657A3618}" type="slidenum">
              <a:rPr b="0" lang="en-A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package" Target="../embeddings/oleObject2.ppt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Release by the International Centre for Diffraction Data (ICDD) of New Powder Data Mining Tools:  the PDF-4/Full File and</a:t>
            </a:r>
            <a:br>
              <a:rPr sz="4400"/>
            </a:br>
            <a:r>
              <a:rPr b="0" i="1" lang="en-AU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PDF-4/Organics Databases</a:t>
            </a:r>
            <a:r>
              <a:rPr b="1" i="1" lang="en-AU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ICDD" descr=""/>
          <p:cNvPicPr/>
          <p:nvPr/>
        </p:nvPicPr>
        <p:blipFill>
          <a:blip r:embed="rId1"/>
          <a:stretch/>
        </p:blipFill>
        <p:spPr>
          <a:xfrm>
            <a:off x="457200" y="4800600"/>
            <a:ext cx="1828800" cy="1054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438280" y="3843360"/>
            <a:ext cx="647712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Brian O’Connor*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en-GB" sz="2400" spc="-1" strike="noStrike">
                <a:solidFill>
                  <a:srgbClr val="99ccff"/>
                </a:solidFill>
                <a:latin typeface="Arial"/>
                <a:ea typeface="Times New Roman"/>
              </a:rPr>
              <a:t>Camden Hubbard</a:t>
            </a:r>
            <a:r>
              <a:rPr b="0" lang="en-GB" sz="2400" spc="-1" strike="noStrike" baseline="30000">
                <a:solidFill>
                  <a:srgbClr val="99ccff"/>
                </a:solidFill>
                <a:latin typeface="Arial"/>
                <a:ea typeface="Times New Roman"/>
              </a:rPr>
              <a:t>#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Tim Fawcett and John Fab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ternational Centre for Diffraction Data, Newtown Square, PA, USA.</a:t>
            </a:r>
            <a:br>
              <a:rPr sz="2400"/>
            </a:br>
            <a:r>
              <a:rPr b="0" lang="en-GB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* Curtin University of Technology, Perth</a:t>
            </a:r>
            <a:br>
              <a:rPr sz="2400"/>
            </a:br>
            <a:r>
              <a:rPr b="0" lang="en-GB" sz="2400" spc="-1" strike="noStrike">
                <a:solidFill>
                  <a:srgbClr val="99ccff"/>
                </a:solidFill>
                <a:latin typeface="Arial"/>
                <a:ea typeface="Times New Roman"/>
              </a:rPr>
              <a:t># Oak Ridge National Laboratory, Tennessee</a:t>
            </a:r>
            <a:br>
              <a:rPr sz="4800"/>
            </a:b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3808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aeaea"/>
                </a:solidFill>
                <a:latin typeface="Arial"/>
              </a:rPr>
              <a:t>ISO-9001 PDF Review Processe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3840120"/>
            <a:ext cx="8534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33720" y="39625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CDD Four Ste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ditorial Proces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514600"/>
            <a:ext cx="236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CD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ran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1523880"/>
            <a:ext cx="299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CD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it. Searc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38680" y="1523880"/>
            <a:ext cx="112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IZ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47520" y="2590920"/>
            <a:ext cx="11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IZ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dito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467480" y="15238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CD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91520" y="25909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CD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dito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05320" y="1523880"/>
            <a:ext cx="134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IS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1523880"/>
            <a:ext cx="3048120" cy="8305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29000" y="1523880"/>
            <a:ext cx="1463760" cy="83844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3962520"/>
            <a:ext cx="2743200" cy="75384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09680" y="5105520"/>
            <a:ext cx="661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All data put in a common format, statistically analyzed, and classified in numerous way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2514600"/>
            <a:ext cx="2438280" cy="7542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562720" y="1523880"/>
            <a:ext cx="1341360" cy="83844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437600" y="1523880"/>
            <a:ext cx="1706400" cy="8305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3352680"/>
            <a:ext cx="854280" cy="549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14800" y="2438280"/>
            <a:ext cx="0" cy="130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43200" y="2438280"/>
            <a:ext cx="60948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81480" y="2590920"/>
            <a:ext cx="1828800" cy="83016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7315200" y="2536920"/>
            <a:ext cx="1828800" cy="8920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48520" y="2362320"/>
            <a:ext cx="0" cy="274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286000"/>
            <a:ext cx="0" cy="274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5105160" y="3505320"/>
            <a:ext cx="974520" cy="204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5943600" y="3581280"/>
            <a:ext cx="2193840" cy="343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219320" y="1235160"/>
            <a:ext cx="4022640" cy="547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165320"/>
            <a:ext cx="1463760" cy="685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609480"/>
            <a:ext cx="8534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XRD Identification with the PDF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603160" y="106200"/>
            <a:ext cx="21816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t">
            <a:spAutoFit/>
          </a:bodyPr>
          <a:p>
            <a:pPr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14400" y="1752480"/>
            <a:ext cx="7070760" cy="26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i="1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Examp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Red coloured material covering beach at the mouth of the Chapman River, Geraldton, Western Australi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Residents expressed concern that the material might be polluting residue from mineral sands Industry.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0720" y="533412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Powder data analysed with the MDI search/match identification program and the PDF-4 databas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4400" y="5334120"/>
            <a:ext cx="7010280" cy="8380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chapman%20river%20xrd" descr="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1828800" y="152280"/>
            <a:ext cx="5715000" cy="43974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80880" y="4648320"/>
            <a:ext cx="8763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Result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pattern is dominated by the phases almandine, quartz and ilmenite. Almandine and ilmenite are present as minor phases in  ‘normal’ beach san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rosion of the beach by water outflow from the river, plus wave action, has preferentially removed the less-dense quartz. There is no evidence of mineral processing residu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garnet almandine accounts for the red coloration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14400" y="175248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2514600"/>
            <a:ext cx="85345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data are arranged in a series of database table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format allows searchable access to all physical property data field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PDF-4 offers 30+ separate searchable diffraction and physical property field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tegrated display, search and indexing software is standard with the PDF-4 format.  (Contact your software distributor for automatic search/match software.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121932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PDF-4 format is a new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relational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tabase container for the PDF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80360" y="173160"/>
            <a:ext cx="372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DF-4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228600" y="304920"/>
          <a:ext cx="5897520" cy="37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04920"/>
                    <a:ext cx="5897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3886200" y="3143160"/>
          <a:ext cx="4952880" cy="371484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3143160"/>
                    <a:ext cx="495288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4800600" y="2895480"/>
            <a:ext cx="609480" cy="12956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05320" y="1981080"/>
            <a:ext cx="1066680" cy="3200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05520" y="1981080"/>
            <a:ext cx="990360" cy="3962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43400" y="1981080"/>
            <a:ext cx="0" cy="3581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93640" y="4308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47920" y="2438280"/>
            <a:ext cx="5562360" cy="22100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4572000"/>
            <a:ext cx="3352680" cy="1557000"/>
          </a:xfrm>
          <a:prstGeom prst="rect">
            <a:avLst/>
          </a:prstGeom>
          <a:solidFill>
            <a:srgbClr val="0000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ew format – dat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arranged in tabula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ctions with point an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ick interfac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67080" y="0"/>
            <a:ext cx="91440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81480" y="533520"/>
            <a:ext cx="1371600" cy="7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97080" y="115920"/>
            <a:ext cx="1892160" cy="8254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ill hav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rd” op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380880" y="3187800"/>
          <a:ext cx="8534520" cy="33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87800"/>
                    <a:ext cx="853452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914400" y="838080"/>
            <a:ext cx="7467480" cy="1922760"/>
          </a:xfrm>
          <a:prstGeom prst="rect">
            <a:avLst/>
          </a:prstGeom>
          <a:solidFill>
            <a:srgbClr val="0000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te both “stick patterns” and digital patter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gital patterns can be user modified to simulat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users instrumental condi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phisticated data mining ability (upcoming slide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isualization software included and integrat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-the-Fly Pattern Calcul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2117880" cy="27482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7086600" y="2286000"/>
            <a:ext cx="2057400" cy="26766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5257800" y="4648320"/>
            <a:ext cx="1494000" cy="16858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334120" y="2057400"/>
            <a:ext cx="2420640" cy="8254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DF-4/Organic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47,201 entr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1440" y="2209680"/>
            <a:ext cx="2280960" cy="8254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DF-4/Full Fi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57,048 entr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85400" y="5637240"/>
            <a:ext cx="2296080" cy="8254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DF-4/Minera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7,535 entr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228600"/>
            <a:ext cx="8458200" cy="1678680"/>
          </a:xfrm>
          <a:prstGeom prst="rect">
            <a:avLst/>
          </a:prstGeom>
          <a:solidFill>
            <a:srgbClr val="0000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72,000 entries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leased in three PDF-4 produc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96252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DF-4 Master Databa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3581280" cy="55627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3581280" y="1600200"/>
            <a:ext cx="5562720" cy="375156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unk = PDF Entry Numb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ranches = 30+ Searchable Proper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ield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wigs = Classification Systems of th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perty Field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aves = Individual Material Property  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   Valu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The PDF Tre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4017960" cy="34689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657600" y="1066680"/>
            <a:ext cx="4800600" cy="106884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rchable Property Field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00000" y="2286000"/>
            <a:ext cx="4414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4 Colo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26 Subfi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458 Mineral Classifica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230 Space Group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206 Organic Functional Group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620 Journals Code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&gt; 500,000 Reference Cita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38360" y="4952880"/>
            <a:ext cx="660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Continuous ranges of melting points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densities, I/Ic, unit cell parameters, temperatu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and pressu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85480" y="6264360"/>
            <a:ext cx="155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Leav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4724280" y="5867280"/>
            <a:ext cx="457200" cy="5335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Branches &amp; Twig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133720" y="304920"/>
            <a:ext cx="63388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 of Searche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19320" y="4952880"/>
            <a:ext cx="746748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dditional Searches for PDF-4 Organic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45160" y="1143000"/>
            <a:ext cx="3329280" cy="34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ype of Element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mber of Element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pirical Formul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on Nam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 Nam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eral Nam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eral Classificatio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-Spac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DF Quality Mark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erence Intensity Ratio, I/Ic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23680" y="1143000"/>
            <a:ext cx="2995200" cy="37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DF-4 Sub-fil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pace Group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arson Symbol Cod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totype Structur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educed Cell Parameters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emperature and Pressur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nsity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Melting Point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olor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uthor Nam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Journ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41960" y="5257800"/>
            <a:ext cx="161604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y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gment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ensic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23640" y="5257800"/>
            <a:ext cx="354096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ganic Functional Group  (206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armaceutic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ug Activity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00" y="-22320"/>
            <a:ext cx="6336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3400" rIns="23400" tIns="11520" bIns="11520" anchor="t">
            <a:spAutoFit/>
          </a:bodyPr>
          <a:p>
            <a:pPr>
              <a:tabLst>
                <a:tab algn="l" pos="0"/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6520" y="320760"/>
            <a:ext cx="6336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3400" rIns="23400" tIns="11520" bIns="11520" anchor="t">
            <a:spAutoFit/>
          </a:bodyPr>
          <a:p>
            <a:pPr>
              <a:tabLst>
                <a:tab algn="l" pos="0"/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1800" y="2463840"/>
            <a:ext cx="6372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3400" rIns="23400" tIns="11520" bIns="11520" anchor="t">
            <a:spAutoFit/>
          </a:bodyPr>
          <a:p>
            <a:pPr>
              <a:tabLst>
                <a:tab algn="l" pos="0"/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815000" y="914400"/>
            <a:ext cx="61920" cy="5683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914400"/>
            <a:ext cx="8839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CDD organis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 Powder Diffraction Fi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 ‘new’ PDF-4 databas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s identification with the PDF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atabase structure, and use in data min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ata mining examp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DF-4 demonstr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1400" y="0"/>
            <a:ext cx="730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Topics to be Covered in Talk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1219320" y="2057400"/>
          <a:ext cx="6476760" cy="45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57400"/>
                    <a:ext cx="6476760" cy="45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0" y="1371600"/>
          <a:ext cx="9144000" cy="54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371600"/>
                    <a:ext cx="914400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 flipH="1">
            <a:off x="2590560" y="685800"/>
            <a:ext cx="533160" cy="838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47920" y="685800"/>
            <a:ext cx="1676160" cy="9144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685800"/>
            <a:ext cx="457200" cy="838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685800"/>
            <a:ext cx="0" cy="838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2133360" y="685800"/>
            <a:ext cx="990360" cy="9144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685800"/>
            <a:ext cx="1067040" cy="838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The Main Branch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"/>
          <p:cNvGraphicFramePr/>
          <p:nvPr/>
        </p:nvGraphicFramePr>
        <p:xfrm>
          <a:off x="609480" y="2895480"/>
          <a:ext cx="8326440" cy="17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895480"/>
                    <a:ext cx="8326440" cy="17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609480" y="4876920"/>
          <a:ext cx="8170920" cy="157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876920"/>
                    <a:ext cx="8170920" cy="15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685800" y="1523880"/>
          <a:ext cx="8202600" cy="101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1523880"/>
                    <a:ext cx="820260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298080"/>
            <a:ext cx="7772400" cy="8334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More Branch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"/>
          <p:cNvGraphicFramePr/>
          <p:nvPr/>
        </p:nvGraphicFramePr>
        <p:xfrm>
          <a:off x="533520" y="1752480"/>
          <a:ext cx="8123040" cy="9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8123040" cy="9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533520" y="2971800"/>
          <a:ext cx="8164440" cy="140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971800"/>
                    <a:ext cx="816444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609480" y="4572000"/>
          <a:ext cx="8183520" cy="113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4572000"/>
                    <a:ext cx="818352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376200"/>
            <a:ext cx="7772400" cy="71136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And Even More Branch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8" name=""/>
          <p:cNvGraphicFramePr/>
          <p:nvPr/>
        </p:nvGraphicFramePr>
        <p:xfrm>
          <a:off x="457200" y="1523880"/>
          <a:ext cx="8170920" cy="100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17092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1219320" y="2590920"/>
          <a:ext cx="6781680" cy="426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2590920"/>
                    <a:ext cx="6781680" cy="4267080"/>
                  </a:xfrm>
                  <a:prstGeom prst="rect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8280" y="2894040"/>
            <a:ext cx="400752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oint and Click for Elemen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1840" y="5638680"/>
            <a:ext cx="475884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perators – And/Or/Not/Only/Jus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8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Example: Mining the Database </a:t>
            </a:r>
            <a:br>
              <a:rPr sz="3600"/>
            </a:b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tart with an Element Search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"/>
          <p:cNvGraphicFramePr/>
          <p:nvPr/>
        </p:nvGraphicFramePr>
        <p:xfrm>
          <a:off x="1295280" y="1600200"/>
          <a:ext cx="6596280" cy="494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600200"/>
                    <a:ext cx="6596280" cy="49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"/>
          <p:cNvSpPr/>
          <p:nvPr/>
        </p:nvSpPr>
        <p:spPr>
          <a:xfrm>
            <a:off x="5410080" y="1676520"/>
            <a:ext cx="350208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 Just Aluminiu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13560" y="3808440"/>
            <a:ext cx="288900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 Aluminium Entr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41560" y="380880"/>
            <a:ext cx="729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Mining the Database for Aluminium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0" name=""/>
          <p:cNvGraphicFramePr/>
          <p:nvPr/>
        </p:nvGraphicFramePr>
        <p:xfrm>
          <a:off x="1295280" y="1295280"/>
          <a:ext cx="6705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295280"/>
                    <a:ext cx="6705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5638680" y="2249640"/>
            <a:ext cx="350532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ect Best Phase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d on Quality Mar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5791320"/>
            <a:ext cx="441972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ted digital XRD Patter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125720" y="271440"/>
            <a:ext cx="729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Mining the Database for Aluminium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"/>
          <p:cNvGraphicFramePr/>
          <p:nvPr/>
        </p:nvGraphicFramePr>
        <p:xfrm>
          <a:off x="457200" y="1074600"/>
          <a:ext cx="6324480" cy="47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74600"/>
                    <a:ext cx="6324480" cy="47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5181480" y="2251080"/>
            <a:ext cx="3733920" cy="1709280"/>
          </a:xfrm>
          <a:prstGeom prst="rect">
            <a:avLst/>
          </a:prstGeom>
          <a:solidFill>
            <a:srgbClr val="0000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hange the XRD Patter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Ran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Wavelengt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Peak Profi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065240" y="304920"/>
            <a:ext cx="729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Mining the Database for Aluminium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9" name=""/>
          <p:cNvGraphicFramePr/>
          <p:nvPr/>
        </p:nvGraphicFramePr>
        <p:xfrm>
          <a:off x="2438280" y="2133720"/>
          <a:ext cx="54198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133720"/>
                    <a:ext cx="54198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"/>
          <p:cNvSpPr/>
          <p:nvPr/>
        </p:nvSpPr>
        <p:spPr>
          <a:xfrm>
            <a:off x="316080" y="1598760"/>
            <a:ext cx="513972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206 Functional Group Classifica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3124080"/>
            <a:ext cx="216720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used Ring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07320" y="5105520"/>
            <a:ext cx="312984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055 entries for fus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ing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5181480" y="4647960"/>
            <a:ext cx="106704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6200" y="380880"/>
            <a:ext cx="844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PDF-4/Organic Functional Group Search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6" name=""/>
          <p:cNvGraphicFramePr/>
          <p:nvPr/>
        </p:nvGraphicFramePr>
        <p:xfrm>
          <a:off x="228600" y="3657600"/>
          <a:ext cx="426708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657600"/>
                    <a:ext cx="42670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4800600" y="3600360"/>
          <a:ext cx="4343400" cy="325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600360"/>
                    <a:ext cx="434340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1075680" y="2741760"/>
            <a:ext cx="220932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DF-4/Full Fi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841 Inorganic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22920" y="2741760"/>
            <a:ext cx="241632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DF-4/Organic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3,271 Organic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609480" y="914400"/>
          <a:ext cx="8170920" cy="157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914400"/>
                    <a:ext cx="817092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854640" y="42840"/>
            <a:ext cx="74109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pace Group Search – P2</a:t>
            </a:r>
            <a:r>
              <a:rPr b="0" lang="en-US" sz="3600" spc="-1" strike="noStrike" baseline="-25000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600" spc="-1" strike="noStrike" baseline="-25000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600" spc="-1" strike="noStrike" baseline="-25000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(19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5" name=""/>
          <p:cNvGraphicFramePr/>
          <p:nvPr/>
        </p:nvGraphicFramePr>
        <p:xfrm>
          <a:off x="762120" y="914400"/>
          <a:ext cx="7553160" cy="566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14400"/>
                    <a:ext cx="7553160" cy="566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7094160" y="1751040"/>
            <a:ext cx="161964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rd” Fi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774840" y="3392640"/>
            <a:ext cx="236304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mall Crystalli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XRD Simul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3960" y="5484960"/>
            <a:ext cx="270144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olecular Draw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47920" y="228600"/>
            <a:ext cx="627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PDF-4 Organics – File Search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4400" y="-22320"/>
            <a:ext cx="6336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3400" rIns="23400" tIns="11520" bIns="11520" anchor="t">
            <a:spAutoFit/>
          </a:bodyPr>
          <a:p>
            <a:pPr>
              <a:tabLst>
                <a:tab algn="l" pos="0"/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6520" y="320760"/>
            <a:ext cx="6336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3400" rIns="23400" tIns="11520" bIns="11520" anchor="t">
            <a:spAutoFit/>
          </a:bodyPr>
          <a:p>
            <a:pPr>
              <a:tabLst>
                <a:tab algn="l" pos="0"/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61800" y="2463840"/>
            <a:ext cx="6372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3400" rIns="23400" tIns="11520" bIns="11520" anchor="t">
            <a:spAutoFit/>
          </a:bodyPr>
          <a:p>
            <a:pPr>
              <a:tabLst>
                <a:tab algn="l" pos="0"/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815000" y="914400"/>
            <a:ext cx="61920" cy="5683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914400"/>
            <a:ext cx="883908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 ICDD comprises a voluntee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ientific membership of 350 diffractionists from 41countries, plus a headquarters staff of 38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dicated to -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n-going development of the PDF, including its Grant-in-Aid progra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dvancement of x-ray instrumental scie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X-ray analytical science education – workshops, Denver X-ray Conference, etc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ternational networking – conference and workshop support, etc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upporting PhD students through its scholarship progra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13320" y="-55440"/>
            <a:ext cx="481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What is the ICDD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543800" cy="56577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6256800" y="2513160"/>
            <a:ext cx="2448360" cy="2288520"/>
          </a:xfrm>
          <a:prstGeom prst="rect">
            <a:avLst/>
          </a:prstGeom>
          <a:solidFill>
            <a:srgbClr val="0000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rug Activ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xcipien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harmaceutica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olyme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26 Total Subfi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523880" y="228600"/>
            <a:ext cx="627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PDF-4 Organics – File Search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240120" y="2590920"/>
            <a:ext cx="860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ata Mining – Global Searche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448640" y="914400"/>
            <a:ext cx="371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Pink crystal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Density = 1.25 – 1.30 g/c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Melting point = 75 – 80 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°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4920" y="2514600"/>
            <a:ext cx="40730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DF-4 Organics – 147,201 Entri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00960" y="3505320"/>
            <a:ext cx="417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ensity Window – 13,269 Material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96720" y="304920"/>
            <a:ext cx="526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Arial"/>
              </a:rPr>
              <a:t>Organic Crystal Identification (1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920" y="2514600"/>
            <a:ext cx="4114800" cy="5335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4920" y="3505320"/>
            <a:ext cx="4114800" cy="4572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861080" y="377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4876920" y="3505320"/>
          <a:ext cx="3809880" cy="28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3505320"/>
                    <a:ext cx="380988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2286000" y="3124080"/>
            <a:ext cx="0" cy="381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4038480"/>
            <a:ext cx="0" cy="228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304920" y="2513160"/>
            <a:ext cx="4326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P Window – reduces to 8 material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3560" y="3505320"/>
            <a:ext cx="45684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lour Window – reduces to 1 materi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             </a:t>
            </a:r>
            <a:r>
              <a:rPr b="0" i="1" lang="en-US" sz="2000" spc="-1" strike="noStrike">
                <a:solidFill>
                  <a:srgbClr val="eaeaea"/>
                </a:solidFill>
                <a:latin typeface="Arial"/>
              </a:rPr>
              <a:t>dibenzoxylmethane, C</a:t>
            </a:r>
            <a:r>
              <a:rPr b="0" i="1" lang="en-US" sz="2000" spc="-1" strike="noStrike" baseline="-25000">
                <a:solidFill>
                  <a:srgbClr val="eaeaea"/>
                </a:solidFill>
                <a:latin typeface="Arial"/>
              </a:rPr>
              <a:t>15</a:t>
            </a:r>
            <a:r>
              <a:rPr b="0" i="1" lang="en-US" sz="2000" spc="-1" strike="noStrike">
                <a:solidFill>
                  <a:srgbClr val="eaeaea"/>
                </a:solidFill>
                <a:latin typeface="Arial"/>
              </a:rPr>
              <a:t>H</a:t>
            </a:r>
            <a:r>
              <a:rPr b="0" i="1" lang="en-US" sz="2000" spc="-1" strike="noStrike" baseline="-25000">
                <a:solidFill>
                  <a:srgbClr val="eaeaea"/>
                </a:solidFill>
                <a:latin typeface="Arial"/>
              </a:rPr>
              <a:t>12</a:t>
            </a:r>
            <a:r>
              <a:rPr b="0" i="1" lang="en-US" sz="2000" spc="-1" strike="noStrike">
                <a:solidFill>
                  <a:srgbClr val="eaeaea"/>
                </a:solidFill>
                <a:latin typeface="Arial"/>
              </a:rPr>
              <a:t>O</a:t>
            </a:r>
            <a:r>
              <a:rPr b="0" i="1" lang="en-US" sz="2000" spc="-1" strike="noStrike" baseline="-25000">
                <a:solidFill>
                  <a:srgbClr val="eaeaea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96720" y="304920"/>
            <a:ext cx="526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Arial"/>
              </a:rPr>
              <a:t>Organic Crystal Identification (2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04920" y="2514600"/>
            <a:ext cx="4267080" cy="5335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861080" y="377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0880" y="3505320"/>
            <a:ext cx="4419720" cy="76176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241960" y="4384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105520" y="3505320"/>
          <a:ext cx="3809880" cy="285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3505320"/>
                    <a:ext cx="3809880" cy="28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"/>
          <p:cNvSpPr/>
          <p:nvPr/>
        </p:nvSpPr>
        <p:spPr>
          <a:xfrm>
            <a:off x="2514600" y="914400"/>
            <a:ext cx="0" cy="1371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14600" y="312408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04920" y="274680"/>
            <a:ext cx="845820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Arial"/>
              </a:rPr>
              <a:t>Search for Passive Solar Home Heating Materia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57200" y="838080"/>
            <a:ext cx="86868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ep 1 – Melting point search (home comfort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ep 2 – Eliminate photodegradable hydrocarbons: extended application lif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ep 3 – Review search and eliminate potentially harmful materia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39520" y="3400560"/>
            <a:ext cx="2246400" cy="382320"/>
          </a:xfrm>
          <a:prstGeom prst="rect">
            <a:avLst/>
          </a:prstGeom>
          <a:solidFill>
            <a:srgbClr val="0000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1. Element Search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3560" y="4314960"/>
            <a:ext cx="2783160" cy="382320"/>
          </a:xfrm>
          <a:prstGeom prst="rect">
            <a:avLst/>
          </a:prstGeom>
          <a:solidFill>
            <a:srgbClr val="0000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2. Melting Point Search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0320" y="5305320"/>
            <a:ext cx="3832920" cy="992160"/>
          </a:xfrm>
          <a:prstGeom prst="rect">
            <a:avLst/>
          </a:prstGeom>
          <a:solidFill>
            <a:srgbClr val="0000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roduces a list of 17 candidates,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8 contain heavy metals,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1 is an explosiv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105520" y="5257800"/>
            <a:ext cx="3429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Arial"/>
              </a:rPr>
              <a:t>All 8 candidate materials are referenced in the patent literature for passive solar heating application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981080" y="3962520"/>
            <a:ext cx="0" cy="2286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889280" y="468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81080" y="4876920"/>
            <a:ext cx="0" cy="2286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2444760" y="2438280"/>
            <a:ext cx="41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emonstratio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52280" y="1371600"/>
            <a:ext cx="8991720" cy="3993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DF is designed to identify crystalline material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urrently contains 279,854 unique data sets characterised by x-ray diffrac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hysical properties, experimental preparation and literature citations include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the next several years ~ 30,000 material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ill be added to the PDF per year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27160" y="574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14400" y="378000"/>
            <a:ext cx="771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aeaea"/>
                </a:solidFill>
                <a:latin typeface="Arial"/>
              </a:rPr>
              <a:t>The PDF Data Base in 2003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965240" y="286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84360" y="118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0" y="1219320"/>
          <a:ext cx="9448920" cy="592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448920" cy="59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914400" y="325440"/>
            <a:ext cx="838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aeaea"/>
                </a:solidFill>
                <a:latin typeface="Arial"/>
              </a:rPr>
              <a:t>Growth of the PDF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6360" y="1828800"/>
            <a:ext cx="8635680" cy="350604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addition to 280,000 data sets, you will find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00,000 densit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00,000 colour classifica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50,000 melting poi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73,000 distinct empirical formula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ver 500,000 reference cita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,602 different searchable journal coden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-838080" y="243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280" y="378000"/>
            <a:ext cx="921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archable PDF Descriptor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685800" y="1981080"/>
          <a:ext cx="3429000" cy="25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3429000" cy="25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5407200" y="1523880"/>
          <a:ext cx="3736800" cy="25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7200" y="1523880"/>
                    <a:ext cx="37368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1523880" y="5181480"/>
          <a:ext cx="7023240" cy="81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5181480"/>
                    <a:ext cx="702324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7560" y="4572000"/>
            <a:ext cx="473760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22,816 entries - PDF-4/Organic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28360" y="3886200"/>
            <a:ext cx="441288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56,614 entries - PDF-4/Full Fi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23240" y="6094440"/>
            <a:ext cx="424368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8,423 entries - PDF-4/Full Fi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9520" y="1141560"/>
            <a:ext cx="439776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92,011 entries – ICDD Sourc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228600"/>
            <a:ext cx="844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Database Partners with the ICDD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3360" y="375840"/>
            <a:ext cx="816264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CDD-MPDS Collaboration on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organic Materials –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New 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799308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lnSpc>
                <a:spcPct val="90000"/>
              </a:lnSpc>
              <a:spcBef>
                <a:spcPts val="524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Arial"/>
              </a:rPr>
              <a:t>Inorganic</a:t>
            </a:r>
            <a:r>
              <a:rPr b="0" lang="en-US" sz="17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Arial"/>
              </a:rPr>
              <a:t>structures and properties abstracted by the Materials Phases Data System and MPDS-JST (Japan Science &amp; Technology Corporation)</a:t>
            </a:r>
            <a:endParaRPr b="0" lang="en-US" sz="2100" spc="-1" strike="noStrike">
              <a:solidFill>
                <a:srgbClr val="eaeaea"/>
              </a:solidFill>
              <a:latin typeface="Times New Roman"/>
            </a:endParaRPr>
          </a:p>
          <a:p>
            <a:pPr marL="290520" indent="-290520">
              <a:lnSpc>
                <a:spcPct val="90000"/>
              </a:lnSpc>
              <a:spcBef>
                <a:spcPts val="524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Arial"/>
              </a:rPr>
              <a:t>Access to future abstracts from Linus Pauling File project</a:t>
            </a:r>
            <a:endParaRPr b="0" lang="en-US" sz="2100" spc="-1" strike="noStrike">
              <a:solidFill>
                <a:srgbClr val="eaeaea"/>
              </a:solidFill>
              <a:latin typeface="Times New Roman"/>
            </a:endParaRPr>
          </a:p>
          <a:p>
            <a:pPr marL="290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Arial"/>
              </a:rPr>
              <a:t>by MPDS</a:t>
            </a:r>
            <a:endParaRPr b="0" lang="en-US" sz="2100" spc="-1" strike="noStrike">
              <a:solidFill>
                <a:srgbClr val="eaeaea"/>
              </a:solidFill>
              <a:latin typeface="Times New Roman"/>
            </a:endParaRPr>
          </a:p>
          <a:p>
            <a:pPr marL="290520" indent="-290520">
              <a:lnSpc>
                <a:spcPct val="90000"/>
              </a:lnSpc>
              <a:spcBef>
                <a:spcPts val="524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Arial"/>
              </a:rPr>
              <a:t>S-entry structural data, including atomic coordinates added to the PDF</a:t>
            </a:r>
            <a:endParaRPr b="0" lang="en-US" sz="2100" spc="-1" strike="noStrike">
              <a:solidFill>
                <a:srgbClr val="eaeaea"/>
              </a:solidFill>
              <a:latin typeface="Times New Roman"/>
            </a:endParaRPr>
          </a:p>
          <a:p>
            <a:pPr marL="290520" indent="-290520">
              <a:lnSpc>
                <a:spcPct val="90000"/>
              </a:lnSpc>
              <a:spcBef>
                <a:spcPts val="524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Arial"/>
              </a:rPr>
              <a:t>Data sets are added to the database after carrying out the duplicate review to exclude overlap with all other sources.</a:t>
            </a:r>
            <a:endParaRPr b="0" lang="en-US" sz="2100" spc="-1" strike="noStrike">
              <a:solidFill>
                <a:srgbClr val="eaeaea"/>
              </a:solidFill>
              <a:latin typeface="Times New Roman"/>
            </a:endParaRPr>
          </a:p>
          <a:p>
            <a:pPr marL="290520" indent="-290520">
              <a:lnSpc>
                <a:spcPct val="90000"/>
              </a:lnSpc>
              <a:spcBef>
                <a:spcPts val="524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Arial"/>
              </a:rPr>
              <a:t>PDF entries will be updated with synthesis and reference citations</a:t>
            </a:r>
            <a:endParaRPr b="0" lang="en-US" sz="2100" spc="-1" strike="noStrike">
              <a:solidFill>
                <a:srgbClr val="eaeaea"/>
              </a:solidFill>
              <a:latin typeface="Times New Roman"/>
            </a:endParaRPr>
          </a:p>
          <a:p>
            <a:pPr marL="290520" indent="-290520">
              <a:lnSpc>
                <a:spcPct val="90000"/>
              </a:lnSpc>
              <a:spcBef>
                <a:spcPts val="524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Arial"/>
              </a:rPr>
              <a:t>~ 100,000 atomic coordinate sets to be added in 2005</a:t>
            </a:r>
            <a:endParaRPr b="0" lang="en-US" sz="21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352680" y="5105520"/>
            <a:ext cx="2667240" cy="8254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DF-4/Organic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47,201 entr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60600" y="2817720"/>
            <a:ext cx="2280960" cy="8254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DF-4/Full Fi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57,048 entr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60960" y="3960720"/>
            <a:ext cx="2296080" cy="8254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DF-4/Minera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7,535 entr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6252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DF-4 Master Databa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1371600"/>
            <a:ext cx="8153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80,000 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tries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leased in three PDF-4 produc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5T15:53:52Z</dcterms:created>
  <dc:creator>ICDD</dc:creator>
  <dc:description/>
  <dc:language>en-US</dc:language>
  <cp:lastModifiedBy>Brian O'connor</cp:lastModifiedBy>
  <dcterms:modified xsi:type="dcterms:W3CDTF">2003-09-08T13:08:00Z</dcterms:modified>
  <cp:revision>74</cp:revision>
  <dc:subject/>
  <dc:title>PowerPoint Presentation</dc:title>
</cp:coreProperties>
</file>