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391-6F62-42B9-9747-680D3DAD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D40-BA06-4A01-B59E-33CDD77E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F84-F7C0-4594-8D64-7DA49BBA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838-B266-4BB6-AA24-BFA4DE5D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B65-5351-43E9-BE17-E8332DC5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0DF-7F0A-4D32-988B-25589973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9CA-3EED-41A5-8B10-5AEA2B7A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BF6-C8A1-4822-9B12-701EC633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074-AA21-42E7-876A-37A2C2C1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C13-2843-431D-B065-AE001864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A7C-95D3-4509-8C39-506C3A1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013-C837-47F7-8D0D-1B8F71B2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5648-B6DE-4584-8B67-F5E265DBA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Powder Indexing of Large Volume Unit Cells (including protein data) using Crys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bin Shir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00"/>
                </a:solidFill>
                <a:latin typeface="Times New Roman"/>
              </a:rPr>
              <a:t>School of Human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00"/>
                </a:solidFill>
                <a:latin typeface="Times New Roman"/>
              </a:rPr>
              <a:t>University of Surr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00"/>
                </a:solidFill>
                <a:latin typeface="Times New Roman"/>
              </a:rPr>
              <a:t>Guildford,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ssion 1b, Single Crystal and Powder Diffraction Software Workshop, ECM-21, Durban,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4 August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gures of merit discussed so far all depend o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ms of discrepan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 differences between observed and calculated line po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they report the averag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f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observations and model, and can be severely degraded by any non-model features such as impurity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of merit can also be based o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oint prob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getting the observed level of fit across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ew joint-probability figures of meri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provided in the new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gram in Crysfire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yle figures of merit, these depend mainly on the regions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ll with that model, and are largely transparent to badly-fitting features like impurity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re about joint-probability methods, come to the indexing microsymposium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oint-Probability Figures of Merit (Pr, 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an specify 6 values for the cell constants (three sides and three angles), we will have fixed the unit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n that sense, indexing implies finding a point with a high figure of merit in a 6-dimensional “solution spac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step-scan across this space, making a visual map of its landscape of high and low values of M (or Pr / Ir), which is what Mmap (or Hmap)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lide shows such a topographical map for a section through the solution space of an organic-metallic dyestuff, to give some idea of what they can look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eak in the map corresponds to a relatively high figure of merit, and hence a possible trial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untaineering in indexing’s solution-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47560" y="55627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 surface in th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) sec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u phthalocyanine (from Powder4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8000" t="3262" r="6000" b="9786"/>
          <a:stretch/>
        </p:blipFill>
        <p:spPr>
          <a:xfrm>
            <a:off x="990720" y="533520"/>
            <a:ext cx="7238880" cy="47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ere are we now? - Crysfire 2002, Crysfire 2003 and Industrial Crys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rent distribution is still Crysfire 2002, but what I’m demonstrating here is Crysfire 2003, to be released very shortly in 16-bit and 32-bit versions (yes, 32-bit at last, though not yet GUI-based!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(or will be) available free for non-profit use (and inexpensively for industrial us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’re aimed at making life easier for non-specialists in indexing (with some crystallographic knowled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Crysfire will be a graphical 32-bit version, more automated and aimed to be usable by technicians, who are not necessarily crystallographers.  Hopefully it will be released early next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“Buyer’s Guide”:  Some characteristics of the Indexing Programs now supported by Crys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5248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lerates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gra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mpuritie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o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sed for low-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jzn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for Ito12, but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more rob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vol9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Good for screening to orthor./mon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z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Best for dominant-zon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guided,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faster than Lz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or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ses in v accurate impu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hl [=TMO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, useful for high &amp; low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up [=Powder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Good for screening down to orth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751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visual maps of solution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751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visual joint-probability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751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Mail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Slows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ly to need overnight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w Much does Cell Volume Matter?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Can one index a prote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ly the indexing problem is scale independent:        it uses only relative dimensions and is unchanged if the d-spacings and wavelength are both doubl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hy do large cells make indexing ha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indexing is scale-independent, instrument resolution and accuracy are not, so if the d-spacings are  10 times bigger, the data must be 10 time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classic programs like Ito &amp; Treor were optimised for moderate cell volumes (i.e. below c.5000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von Dreele has indexed several protein patterns, at least in high symmetry (and solved their struc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includes re-scaling to support this, as we’ll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57080"/>
                <a:tab algn="l" pos="123984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 Working with High Volume Datasets &gt;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ysfire: SC comm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ing data via self-calibration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ysfire: Indexing a Protein</a:t>
            </a:r>
            <a:br>
              <a:rPr sz="3200"/>
            </a:b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kcell: LePage / Best Solu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king a higher-symmetry cel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Demonst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der-indexing problem is now well understood (though not always solved, especially if you don’t use the right tool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powerful indexing programs available and becoming more widely used (more in the pipeline - watch this sp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offers easy access to 9 of them (from next month, Crysfire 2003 will make that 1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’s strength lie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al cells, not in establishing their best description and sym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job is best done as a separate stage, using the graphical helper program, Chek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and Chekcell are complementary, and if used together are likely to offer the quickest route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protein data can now be indexed (given very good da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tributing Authors: Crysfire &amp; Chek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:  Overall system + Mmap, Hmap, Lzon, Losh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 Shir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ed crystallographic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z Kohlb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 [=TM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l Le B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Ma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Louë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vol, Losh, L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 Spek &amp; A. Meets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Taup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p [=Powd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e van der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2cr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Vis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o, Fjzn, Lzo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Eric Wer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k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 Laugier &amp; Bernard Bo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 Discussion 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wder indexing and why is it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2003 indexing example (high-quality lab da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with Crysfire and Chek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of merit - classic and joint-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aineering in indexing’s solution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2002, Crysfire 2003 (and Industrial Crysfi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buyer’s guide” for index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does cell volume matter?  Can one index a prote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2003 protein example (Zn Insuli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calibration for 2Theta zero err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caling and indexing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-group and higher symmetry: Chek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and acknowledg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assification of Index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914400"/>
            <a:ext cx="8839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a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haustiv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tu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gram(s)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 index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ive dichoto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sem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heuris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mat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d annea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t yet t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equ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t yet t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/covari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. (both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ono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mat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heu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permu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list is not claimed to be complete.  Only symmetry-general methods inclu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thods vs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8580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a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grams using thi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 index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ITO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FJZN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ive dichoto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DICVOL9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-Cell,[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LZ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LO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IX, Mmap, Hmap, (Powder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heuris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LZ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LO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M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H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H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X, (W.P.G.A.: Harri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McMail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VD-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d annea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 yet implemen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equ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 yet implemen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le-ba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McMail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dealised), (W.P.G.A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. (both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/covari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LECH/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heu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TREOR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MO [=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KOH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permu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DER [=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TA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Underlin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upported by Crysfire, in round brackets if not generally 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exing Programs: 1)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685800"/>
            <a:ext cx="88390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gram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uthor(s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pace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h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TO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s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ne 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JZN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ser &amp; Shirl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ne 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CVOL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uë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hotom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C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ma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hotom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NI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zkowic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id 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/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owder4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rl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id 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Z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rley/Louër/Vis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.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rley &amp; Louë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.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map, H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rl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.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,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lokaz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/ext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cMai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 Bai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D-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l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.P.G.A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is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LECH/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gma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n/cova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/(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,Win,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OR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r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O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OH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hlbe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DER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A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  Taup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perm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derlined if supported by Crysfire, in round brackets if not generally avail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exing Programs: 2) Performance (1GHz Penti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85800"/>
            <a:ext cx="8839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gram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rthor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nocl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icl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TO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JZN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CVOL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3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30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ins-hou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v. vol.-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C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inutes-hou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NI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5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?5 mi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.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guided in monoc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owder4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5 min in each 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C Equiv.), user gu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Z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sec - 5 min in each 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30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gu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map, H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sec - 15 min in each 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gu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15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5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30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-auto. in practi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cMai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ours in black box 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D-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inutes-hou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.P.G.A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times said to be length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pha / SGI workst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LECH/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Auto,  Exh. to monoc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OR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O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OH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DER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A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5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mi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Very lo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ypical run times as a rough guide, but may vary considerably with data &amp; sett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exing Programs: 3) Tolerance of impurities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57200"/>
            <a:ext cx="88390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olerates: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gram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mpuritie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TO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sed for low-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JZN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for ITO12, but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more rob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CVOL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Good for screening to orthor./mono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C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rcial package (Accelr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NI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 development, user gu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owder4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seded by L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Z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Best for dominant-zon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guided,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faster than L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guided,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good for dominant z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, 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guided,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good for dominant zo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UTO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ptional user 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cMai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Uses idealised whole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D-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rcial package (Bruk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.P.G.A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Uses whole pro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evelo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LECH/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full peak-fit covarianc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OR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Specialises in v accurate impur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O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OH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, useful for high &amp; low 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DER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A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Good for screening down to orth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ough nominally automatic, in practice AUTOX often needs some user guid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is powder indexing and why is it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905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you can get started on an ab initio pow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, you need to know the uni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the intensity from each profile point can’t be located in reciprocal space, and progress is im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ring the unit cell from the limited and partly overlapping and degraded information in a powder pattern is called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owder index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auto-index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complex process of induction that’s far beyond manual methods in all but the easiest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04760" y="1981080"/>
            <a:ext cx="5257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haps more than for any other aspect of powder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cess in powder indexing depends critically on the resolution and accuracy of one’s observ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hough there are tools for correcting data with systematic errors                (self-calibration example to foll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xing? - No problem, we just use program ... [fill in your lab’s preference]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05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es that always work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no - sometimes it doesn’t come out, so we drop that problem and move 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can be harder than actually solving the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seem an all-or-nothing process, that either comes out painlessly or with much effort, if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specially if you only have one tool in your toolbo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types of pattern can need different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Dicvol (or Treor) on a problem that needs Lzon (or Kohl) is like trying to hammer in a nail with a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 A first look at Crysfire 2003 &amp; Chekcell&gt;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ing a low-volume monoclinic lab dataset using programs in combin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Demonst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0800" y="2668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rysfi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from powder line positions (2Thetas or d-spacings) and returns with a list of plausible trial cells, sorted by number of lines indexed and figure of mer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t should have done the really hard work of pinning down the solution to somewhere specific in solution 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work is finished when it has provided a list that contains the correct cell in some form (or a derivative cell of 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solutions may be in unhelpful settings or expressed in too-low symmetry, and not say much about space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hek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graphical toolkit that can help the user to identify the best crystal system and s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narrow the symmetry to a few specific spacegroups for each trial solution, and do an extended Le Page search for derivative sub- and super-cells (for one trial solution at a ti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xing with Crysfire + Chek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ummar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rysfi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eavy stuff that you couldn’t think of doing by hand, but doesn’t stop to polish its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hek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graphical tools to help with the polishing job, which in principle you could do by hand, but this way is much easier an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xing with Crysfire + Chekcell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figures of merit (M) are roughly the inverse of R-factors, but based on differences in obs and calc Q [=1/dsq] rather than in int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rograms define M somewhat differently, but that isn’t usually important - M is too sensitive to tiny changes in cell constant for minor differences to be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’s worth noting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rrent program actually uses De Wolff’s original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tion for its M (though they often call i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because its handling of “unindexed” lines would be too cumber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MHO) The best-conditioned and most conservative M is M1, as used by Crysfire’s CA and MM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simply records whatever each program rep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ssic Figures of Merit (“M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0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”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01:46:54Z</dcterms:created>
  <dc:creator>Littlejym</dc:creator>
  <dc:description/>
  <dc:language>en-US</dc:language>
  <cp:lastModifiedBy>Littlejym</cp:lastModifiedBy>
  <cp:lastPrinted>2003-08-18T09:03:28Z</cp:lastPrinted>
  <dcterms:modified xsi:type="dcterms:W3CDTF">2003-08-18T17:00:47Z</dcterms:modified>
  <cp:revision>151</cp:revision>
  <dc:subject/>
  <dc:title>Progress in Automatic Powder Indexing</dc:title>
</cp:coreProperties>
</file>